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BA8-744D-407D-BF4F-506EEA9A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60F-789C-4CC9-A6C0-38439C0B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819-E16C-4777-A4CB-29788A76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F41-792F-46D5-BF6F-03777A42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4481-BAE8-42E1-907D-90F5DC01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0A95-553E-4F8D-81F5-E1324DCE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ED5C-AA39-4C34-B9CD-4B4FCA30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837D-2446-4808-8239-B303A50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14A0-41E1-4F81-87A9-FA90971C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3D32-FDEA-44FF-B511-C4988494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3B1A-DD6A-4B0C-BF7F-10D77F20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B6F-70F1-4C31-B4FD-10F7D3D7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4223-57E2-4491-8E90-19B37A35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117A-1057-46ED-9F7A-D32D5B94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2FFB-B776-410A-B6E6-5832CBFE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609F-F029-42DA-9833-D89E4AE0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CD7E-B303-4069-BF57-2E330C14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EF6-8184-4A7B-A13F-D57B613E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B76-A51E-485A-ABDF-24A11368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38F-B321-4686-9D30-F36C50DA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0C0-7D3B-4D93-8CEE-87BEB2F0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024-3C7E-44F9-8DE8-0029406C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F01-3439-41BB-B3AC-3AB677BE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C7D-709D-45BD-9FF6-95DE94B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63BF-5AFB-4CE3-922A-B3E508E116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0CDC-F359-43DE-9452-5DC0C5D625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hyperlink" Target="http://images.google.ro/imgres?imgurl=http://www.editie.ro/images/stiri/stire56295.jpg&amp;imgrefurl=http://www.craiova-maxima.ro/forum/viewtopic.php%3Ft%3D5356&amp;usg=__4C_s3W6NySmDs-L78YV9hScyUYI=&amp;h=333&amp;w=500&amp;sz=24&amp;hl=ro&amp;start=225&amp;tbnid=UooZFAA3p4LtKM:&amp;tbnh=87&amp;tbnw=130&amp;prev=/images%3Fq%3Dparcul%2BRomanescu%26gbv%3D2%26ndsp%3D18%26hl%3Dro%26sa%3DN%26start%3D216" TargetMode="External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ro/imgres?imgurl=http://image28.webshots.com/28/9/30/38/251393038zyeucy_ph.jpg&amp;imgrefurl=http://outdoors.webshots.com/photo/1251393038063549507zyeucy&amp;usg=__K43GHQtyNNFgA011PRV3Hya23K8=&amp;h=480&amp;w=640&amp;sz=57&amp;hl=ro&amp;start=162&amp;tbnid=rzI9P0ilYIS7PM:&amp;tbnh=103&amp;tbnw=137&amp;prev=/images%3Fq%3Dparcul%2BRomanescu%26gbv%3D2%26ndsp%3D18%26hl%3Dro%26sa%3DN%26start%3D144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mages.google.ro/imgres?imgurl=http://image32.webshots.com/32/6/36/56/261963656hwgayP_fs.jpg&amp;imgrefurl=http://outdoors.webshots.com/photo/1261963656063549507hwgayP&amp;usg=__UZY5-TabsXs0CWXmjoxAppmq28I=&amp;h=1200&amp;w=1600&amp;sz=259&amp;hl=ro&amp;start=154&amp;tbnid=VTLPM4j5T5xcdM:&amp;tbnh=113&amp;tbnw=150&amp;prev=/images%3Fq%3Dparcul%2BRomanescu%26gbv%3D2%26ndsp%3D18%26hl%3Dro%26sa%3DN%26start%3D144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hyperlink" Target="http://images.google.ro/imgres?imgurl=http://farm3.static.flickr.com/2007/2172561376_747cceeeec.jpg%3Fv%3D0&amp;imgrefurl=http://flickr.com/photos/10438010%40N04/2172561376/&amp;usg=__FWk79YDIsTjKxNK6CxrQP1w9ouc=&amp;h=500&amp;w=375&amp;sz=165&amp;hl=ro&amp;start=146&amp;tbnid=hYRuGJlIDV9-mM:&amp;tbnh=130&amp;tbnw=98&amp;prev=/images%3Fq%3Dparcul%2BRomanescu%26gbv%3D2%26ndsp%3D18%26hl%3Dro%26sa%3DN%26start%3D144" TargetMode="Externa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6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1905120"/>
            <a:ext cx="777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arcul Nicolae Roman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nu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e a naturii, modela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 om, este în prezent al treilea parc natura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 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me  di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 luc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le de specialitate a fost nominalizat printre cele mai impu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are parcuri naturale din Europa, a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ri de Versaille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a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incio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tali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de parcul englezesc din Mün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te operă de arhitectură peisagistică romantică, uni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in modul de concepţie 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 Ro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ia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900000" y="549360"/>
            <a:ext cx="77756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u g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desc 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a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omul pierde g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nil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 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le, se va pierde pe sin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su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“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J.R. Oppenheimer, 1954)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218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nus gluti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lnus glutinosa"/>
          <p:cNvPicPr/>
          <p:nvPr/>
        </p:nvPicPr>
        <p:blipFill>
          <a:blip r:embed="rId1"/>
          <a:stretch/>
        </p:blipFill>
        <p:spPr>
          <a:xfrm>
            <a:off x="3780000" y="1628640"/>
            <a:ext cx="4608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cul…pl</a:t>
            </a: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ă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â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 verzi ai ora</a:t>
            </a: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ş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ului</a:t>
            </a:r>
            <a:br>
              <a:rPr sz="3800"/>
            </a:b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uime</a:t>
            </a:r>
            <a:r>
              <a:rPr b="0" lang="ro-RO" sz="1800" spc="-1" strike="noStrike">
                <a:solidFill>
                  <a:srgbClr val="ff0000"/>
                </a:solidFill>
                <a:latin typeface="Times New Roman"/>
              </a:rPr>
              <a:t>ş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te cu peisajele lui romantice, cu exploziile de culori, sunete  </a:t>
            </a:r>
            <a:r>
              <a:rPr b="0" lang="ro-RO" sz="1800" spc="-1" strike="noStrike">
                <a:solidFill>
                  <a:srgbClr val="ff0000"/>
                </a:solidFill>
                <a:latin typeface="Times New Roman"/>
              </a:rPr>
              <a:t>ş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i miresme</a:t>
            </a:r>
            <a:br>
              <a:rPr sz="1800"/>
            </a:br>
            <a:br>
              <a:rPr sz="3800"/>
            </a:b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3585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IMG_4624"/>
          <p:cNvPicPr/>
          <p:nvPr/>
        </p:nvPicPr>
        <p:blipFill>
          <a:blip r:embed="rId1"/>
          <a:stretch/>
        </p:blipFill>
        <p:spPr>
          <a:xfrm>
            <a:off x="4572000" y="1484280"/>
            <a:ext cx="4032360" cy="290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multiculturalitate"/>
          <p:cNvPicPr/>
          <p:nvPr/>
        </p:nvPicPr>
        <p:blipFill>
          <a:blip r:embed="rId2"/>
          <a:stretch/>
        </p:blipFill>
        <p:spPr>
          <a:xfrm>
            <a:off x="4500720" y="4581360"/>
            <a:ext cx="4303440" cy="201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imagine_parc_Craiova"/>
          <p:cNvPicPr/>
          <p:nvPr/>
        </p:nvPicPr>
        <p:blipFill>
          <a:blip r:embed="rId3"/>
          <a:stretch/>
        </p:blipFill>
        <p:spPr>
          <a:xfrm>
            <a:off x="684360" y="4172040"/>
            <a:ext cx="3456000" cy="2496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Picture%20031"/>
          <p:cNvPicPr/>
          <p:nvPr/>
        </p:nvPicPr>
        <p:blipFill>
          <a:blip r:embed="rId4"/>
          <a:stretch/>
        </p:blipFill>
        <p:spPr>
          <a:xfrm>
            <a:off x="826920" y="1557360"/>
            <a:ext cx="3311640" cy="24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invit</a:t>
            </a:r>
            <a:r>
              <a:rPr b="0" lang="ro-RO" sz="20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la relaxare</a:t>
            </a:r>
            <a:r>
              <a:rPr b="0" lang="ro-RO" sz="2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pe malul sau în mijlocul lacului, pe alei, la hipodrom, velodrom sau amfiteatru</a:t>
            </a:r>
            <a:br>
              <a:rPr sz="20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10" descr="IMG_4657"/>
          <p:cNvPicPr/>
          <p:nvPr/>
        </p:nvPicPr>
        <p:blipFill>
          <a:blip r:embed="rId1"/>
          <a:stretch/>
        </p:blipFill>
        <p:spPr>
          <a:xfrm>
            <a:off x="1042920" y="191628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in vacanta"/>
          <p:cNvPicPr/>
          <p:nvPr/>
        </p:nvPicPr>
        <p:blipFill>
          <a:blip r:embed="rId2"/>
          <a:stretch/>
        </p:blipFill>
        <p:spPr>
          <a:xfrm>
            <a:off x="6804000" y="3429000"/>
            <a:ext cx="180972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salcii"/>
          <p:cNvPicPr/>
          <p:nvPr/>
        </p:nvPicPr>
        <p:blipFill>
          <a:blip r:embed="rId3"/>
          <a:stretch/>
        </p:blipFill>
        <p:spPr>
          <a:xfrm>
            <a:off x="1042920" y="4221000"/>
            <a:ext cx="2665440" cy="2011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stire562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4797360"/>
            <a:ext cx="2154240" cy="144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cu-cainele-in-parc"/>
          <p:cNvPicPr/>
          <p:nvPr/>
        </p:nvPicPr>
        <p:blipFill>
          <a:blip r:embed="rId6"/>
          <a:stretch/>
        </p:blipFill>
        <p:spPr>
          <a:xfrm>
            <a:off x="4067280" y="4437000"/>
            <a:ext cx="2376360" cy="1778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1" descr="183"/>
          <p:cNvPicPr/>
          <p:nvPr/>
        </p:nvPicPr>
        <p:blipFill>
          <a:blip r:embed="rId7"/>
          <a:stretch/>
        </p:blipFill>
        <p:spPr>
          <a:xfrm>
            <a:off x="4643280" y="1773360"/>
            <a:ext cx="1459080" cy="244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tb_150_0710_6_281759"/>
          <p:cNvPicPr/>
          <p:nvPr/>
        </p:nvPicPr>
        <p:blipFill>
          <a:blip r:embed="rId8"/>
          <a:stretch/>
        </p:blipFill>
        <p:spPr>
          <a:xfrm>
            <a:off x="6877080" y="1773360"/>
            <a:ext cx="1582560" cy="15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Parcul…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6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invită la romantism şi armo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fiind martor al evenimentelor din viaţa noast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IMG_1714"/>
          <p:cNvPicPr/>
          <p:nvPr/>
        </p:nvPicPr>
        <p:blipFill>
          <a:blip r:embed="rId1"/>
          <a:stretch/>
        </p:blipFill>
        <p:spPr>
          <a:xfrm>
            <a:off x="684360" y="263700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IMG_1811"/>
          <p:cNvPicPr/>
          <p:nvPr/>
        </p:nvPicPr>
        <p:blipFill>
          <a:blip r:embed="rId2"/>
          <a:stretch/>
        </p:blipFill>
        <p:spPr>
          <a:xfrm>
            <a:off x="4859280" y="2565360"/>
            <a:ext cx="364500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"Eu g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â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ndesc c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dac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omul pierde gr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dinile 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ş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i c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rile, se va pierde pe sine 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î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nsu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ş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i". (J. R. Oppenheimer, 1954)</a:t>
            </a: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i c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tev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a crâmpeie din nevoia de parc în viaţamea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aic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www.youtube.com/watch?v=eh04d-XyXy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Istor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ativa acestei importante luc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 urbanistice apa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e cunoscutului om de cultu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N.P. Romanescu,care, fiind primar al Craiove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 1899, a ho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 amenajarea unui parc pentru odih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recre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 1900, la Expoz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a Intern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onala de la Paris, proiectu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arculu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 fost premiat cu medalia de a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uc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le de realizare a parculu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b conducerea arhitectului peisajist francez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mile Rendont, au durat 3 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0000"/>
                </a:solidFill>
                <a:latin typeface="Times New Roman"/>
              </a:rPr>
              <a:t>Istor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879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i este cunoscu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ub numele de Parcul Bibescu, deoare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e amplasat pe un teren cum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t de Pri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a Craiovei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 anul 1853, de la Iancu Bibescu, fratele lui Grigore Bibesc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pentru 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 mijlocul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 se gas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 una dintre casele familiei domnitoa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alatul Bibescu"/>
          <p:cNvPicPr/>
          <p:nvPr/>
        </p:nvPicPr>
        <p:blipFill>
          <a:blip r:embed="rId1"/>
          <a:stretch/>
        </p:blipFill>
        <p:spPr>
          <a:xfrm>
            <a:off x="3635280" y="2133720"/>
            <a:ext cx="5042160" cy="36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Pentru realizarea proiectului s-au utilizat solu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</a:rPr>
              <a:t>ţ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</a:rPr>
              <a:t>î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drazne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</a:rPr>
              <a:t>ţ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</a:rPr>
              <a:t> la vremea acee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reare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ui cadru romantic, prin edificarea unor constru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i de tipul Podului Suspend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stel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erme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alizarea unui pod din beton care im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runchiuri de arb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limatizarea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lantarea unor specii valoroase de arbo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arb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prafata tota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 parcului este de 96 de h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cuprinde, pe 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lant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ile ornamentale d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este 250 de specii d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bo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arb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lac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 peste 4 ha, un hipodrom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amfiteatru pentru spectaco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n 1906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 mi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g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zoologi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 –căreia i se va schimba amplasamentul  anul viitor în parcul pădure Lunca Ji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-a mai adăugat recent şi un velodro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Imagi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3" descr="IMG_4651"/>
          <p:cNvPicPr/>
          <p:nvPr/>
        </p:nvPicPr>
        <p:blipFill>
          <a:blip r:embed="rId1"/>
          <a:stretch/>
        </p:blipFill>
        <p:spPr>
          <a:xfrm>
            <a:off x="1176480" y="1600200"/>
            <a:ext cx="328428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IMG_4648"/>
          <p:cNvPicPr/>
          <p:nvPr/>
        </p:nvPicPr>
        <p:blipFill>
          <a:blip r:embed="rId2"/>
          <a:stretch/>
        </p:blipFill>
        <p:spPr>
          <a:xfrm>
            <a:off x="5138640" y="160020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IMG_4645"/>
          <p:cNvPicPr/>
          <p:nvPr/>
        </p:nvPicPr>
        <p:blipFill>
          <a:blip r:embed="rId3"/>
          <a:stretch/>
        </p:blipFill>
        <p:spPr>
          <a:xfrm>
            <a:off x="1176480" y="3941640"/>
            <a:ext cx="328428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G_1684"/>
          <p:cNvPicPr/>
          <p:nvPr/>
        </p:nvPicPr>
        <p:blipFill>
          <a:blip r:embed="rId4"/>
          <a:stretch/>
        </p:blipFill>
        <p:spPr>
          <a:xfrm>
            <a:off x="5138640" y="394164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agi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Picture 4" descr="rotonda"/>
          <p:cNvPicPr/>
          <p:nvPr/>
        </p:nvPicPr>
        <p:blipFill>
          <a:blip r:embed="rId1"/>
          <a:stretch/>
        </p:blipFill>
        <p:spPr>
          <a:xfrm>
            <a:off x="900000" y="1916280"/>
            <a:ext cx="1590840" cy="2170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podul suspendat"/>
          <p:cNvPicPr/>
          <p:nvPr/>
        </p:nvPicPr>
        <p:blipFill>
          <a:blip r:embed="rId2"/>
          <a:stretch/>
        </p:blipFill>
        <p:spPr>
          <a:xfrm>
            <a:off x="900000" y="4508640"/>
            <a:ext cx="2808360" cy="1912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pod"/>
          <p:cNvPicPr/>
          <p:nvPr/>
        </p:nvPicPr>
        <p:blipFill>
          <a:blip r:embed="rId3"/>
          <a:stretch/>
        </p:blipFill>
        <p:spPr>
          <a:xfrm>
            <a:off x="6732720" y="4797360"/>
            <a:ext cx="21589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251393038zyeucy_p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162864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261963656hwgayP_f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67280" y="4508640"/>
            <a:ext cx="2376360" cy="178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270859149pxFdtH_fs"/>
          <p:cNvPicPr/>
          <p:nvPr/>
        </p:nvPicPr>
        <p:blipFill>
          <a:blip r:embed="rId8"/>
          <a:stretch/>
        </p:blipFill>
        <p:spPr>
          <a:xfrm>
            <a:off x="3851280" y="3068640"/>
            <a:ext cx="193356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2172561376_747cceeeec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27640" y="1628640"/>
            <a:ext cx="184644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2818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osebi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valoare au plant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ile forestier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ornamen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re varie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e decorative, cele mai demne de ate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a vizitatorilor s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inus excelsa w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ifer originar din Himalay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pinus excelsa wal"/>
          <p:cNvPicPr/>
          <p:nvPr/>
        </p:nvPicPr>
        <p:blipFill>
          <a:blip r:embed="rId1"/>
          <a:stretch/>
        </p:blipFill>
        <p:spPr>
          <a:xfrm>
            <a:off x="4427640" y="2276640"/>
            <a:ext cx="353052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266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erasus serrul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errasus serrulata"/>
          <p:cNvPicPr/>
          <p:nvPr/>
        </p:nvPicPr>
        <p:blipFill>
          <a:blip r:embed="rId1"/>
          <a:stretch/>
        </p:blipFill>
        <p:spPr>
          <a:xfrm>
            <a:off x="4932360" y="1916280"/>
            <a:ext cx="2997360" cy="4008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cerrasus 2"/>
          <p:cNvPicPr/>
          <p:nvPr/>
        </p:nvPicPr>
        <p:blipFill>
          <a:blip r:embed="rId2"/>
          <a:stretch/>
        </p:blipFill>
        <p:spPr>
          <a:xfrm>
            <a:off x="1692360" y="3141720"/>
            <a:ext cx="2016000" cy="15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2f2f18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6920" y="1599840"/>
            <a:ext cx="262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er saccharin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cer saccharium"/>
          <p:cNvPicPr/>
          <p:nvPr/>
        </p:nvPicPr>
        <p:blipFill>
          <a:blip r:embed="rId1"/>
          <a:stretch/>
        </p:blipFill>
        <p:spPr>
          <a:xfrm>
            <a:off x="4500720" y="1413000"/>
            <a:ext cx="351936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5:53:10Z</dcterms:created>
  <dc:creator>Savi</dc:creator>
  <dc:description/>
  <dc:language>en-US</dc:language>
  <cp:lastModifiedBy>Nastasia</cp:lastModifiedBy>
  <dcterms:modified xsi:type="dcterms:W3CDTF">2012-09-11T19:23:32Z</dcterms:modified>
  <cp:revision>16</cp:revision>
  <dc:subject/>
  <dc:title>Slide 1</dc:title>
</cp:coreProperties>
</file>